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4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Img"/>
          </p:nvPr>
        </p:nvSpPr>
        <p:spPr>
          <a:xfrm>
            <a:off x="107640" y="739800"/>
            <a:ext cx="658188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ftr" idx="43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 type="sldNum" idx="44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4190-1D33-4E56-B34C-DB8EBD6EE4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08000" y="739800"/>
            <a:ext cx="6581880" cy="37036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F062-8E3B-4E83-80E6-51A791306E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8FDA-A1C1-408A-9707-7895A6E57C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6095-2972-45DD-95D3-A32C7136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29FFAA-DD54-441D-8AA4-970ABE82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A472C7-4C5C-44EC-8289-3F1BCFDC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7AEAF7-7B07-49A3-9B1A-6F5DD2AF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31802F-096C-4457-BC87-2112C2A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E797F-6CAE-4ACE-A13A-34B570B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3B3C8A-1A92-46BC-A4F2-1495F2C9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9393FC-0CA4-4388-935E-C3F56E54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51D4CE-EAC7-4EF8-AB07-02FCF5B9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394097-3940-4267-88D8-151DFEBD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25982C-EF39-4910-AA52-C3F069FE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7783-55F4-4E1D-B856-843D3EC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D36CA3-56F3-4587-BEA2-D112FB75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88990E-3E13-494E-B600-FFB0A06C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6ECB1B-8E5E-4731-88A4-AFDC9985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12C506-AECE-42C8-80E2-B0D9B29D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7E3007-E93B-4F28-9132-7B0166E1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2400BD-D725-43FF-AE49-450923F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280FB1-09E6-4F55-9B5C-1939DB89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819F6F-51C1-45AC-ACEA-B9C57914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6BDC7-827A-44BA-AEA9-7FE14FA2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E3C05C-D075-49CB-B0AF-30D6A530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BEB8-5FC6-4ADD-875D-76EBF47546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7ABEC1-50D7-4DFC-8A1F-A5D1433F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B97DBF-D0BE-422C-A7EF-FE80EF64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0C1D49-7BF0-4033-B26C-7E3733BC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100391-EED4-40C5-961E-CDBFBDAD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199F1-5EB7-4708-9C48-DC61A032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351671-05DC-47F4-A3A2-0D5F311B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E847D5-D9F5-4D9D-A9EE-F0C9267C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727B00-E8FD-449B-BDD6-686960C0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CA199B-E38E-4646-BD83-2618A0E1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BE4D26-60E7-49ED-9CDA-001E93D0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2318D-03F3-4C55-90E2-0C6360D3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92EA3-6748-47D3-BE4C-99530C57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B21F84-3866-4437-ADF8-AA60C194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67C01D-2A10-4463-B6B1-83E7BB83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4EA5DA-393A-4369-A724-5D33AE9A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4EF507-7051-4B6D-AD3E-72633F66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430A7D-206F-4873-89D6-96449F79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123BC2-2CBE-4986-94E3-6E64E735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5E9FA9-0D50-43ED-8E65-558604C8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589AC9-9193-484E-881C-09FA4EC7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B04D2A-731D-4F4F-9202-45DFE19F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05A46-B1D6-4843-A47D-43B5CA4D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53E253-3938-404E-BCFB-8CEC413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D87CE3-500C-4612-A617-EAD6556C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53848E-E1F7-425F-8C3C-FBD97627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AEFEFF-A082-4F5C-A811-47852542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14FB5F-30F7-4126-8704-71AB1865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EC24A-46DC-4435-B931-F3240C86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1FF397-CD37-4505-A6EB-3DF0008E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369841-5F89-4AAB-9950-3273D947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DAA2C8-1532-41E8-8AB8-121BAA1E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52B1E-08A2-4FAD-A01E-682710BF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708F9D-064D-4CB9-A584-F31A9D1E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0E743C-6F4D-40AC-962F-C5BFDE0D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59A9CF-CD6C-499C-806C-900DE584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61A802-DDFE-41C1-995F-FE9F90C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91236C-1EBD-430A-A57B-19810582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AD6EE5-02A0-468B-B896-7B10AC4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A1F90E-6B08-4B10-A0F7-AEE71A3B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3F1FE8-952C-4EE0-8F26-1AF8B465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422DFE-199B-4417-8C3C-49603DD0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DA192C-E1A1-4327-8D51-ABF8EA45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AFED2-7F2C-47B3-BA3F-19B2089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2612CA-7CE9-4AF0-A7C8-44A55649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151C4B-E203-4503-A00A-B361FDD3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FB203C-1864-476F-890E-6A5975F7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0C8603-B3C1-4C17-9BCF-ADE3A5E2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9E3CBC-205A-40B8-96A1-5C4252FE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97B3B5-12AC-427C-8DDA-B3B51B96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A88EC9-0870-41D7-820C-D6A0BC08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0F3D9A-CB83-49D1-9ADE-2C208BF6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82CEC5-1868-4FCF-AEFE-44B56572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F14E74-3047-424E-8ABA-91CE56DF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CC55F-B24A-4168-B713-B30FCC35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3D69B3-9E4E-4664-8709-19B4E6E8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B0B77C-C055-4A89-8D9D-FDC03232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31B9BC-3F6D-4E16-98C6-E883C625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752608-CC7F-470B-A10B-EE4CE836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CA5603-323F-424D-B075-4631EC47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9EBA13-172F-4E03-A0D7-CD981A47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3D35A5-70C0-42BA-9DF4-DC5B2B33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EFABC6-ACDD-480A-A73C-082BAAE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28B19E-CB75-43DD-80B1-B943F9A1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47AE49-CA58-4293-AEA9-6FECB5CD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19CFE-90D9-444F-AA6B-4C82598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3FC05A-BEB0-4D76-A330-B74D6FC6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DE5EA4-DCBF-4E54-8EDA-62E9DF9A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EDF98B-71A8-409A-8782-B0B2EF48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4F19-C0A4-4F6E-B679-42816845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CDE30-02E2-4450-9D88-4409618A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F22BC-D82C-4646-85A4-ED6026A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395C3-7C1A-46A5-93BF-3E5F99D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542A6-3E7C-4FD0-8419-73EEAAF1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F5D7C-7221-46DE-BCAD-5209193F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54E7-94EC-46E8-88E5-43D02EB5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97491-4BA8-433E-9FE5-20857A8D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9002B-AAAC-44A4-BB09-7FDAB550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500CB-0FF4-427C-93C2-8024F9CB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EC63-D3DF-426C-BCE8-C124C7E4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806A0-7CC9-4935-8965-B2B19F95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DA2AE-D13B-4D71-B8EF-5C02EA2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B22D3-2B52-4200-9FB9-60D09305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E023A-4010-4283-9782-7551BD8E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4F835-DF4D-4447-A7B1-18473EC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FC8E6-07AD-42C2-99E1-898F80B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61908-60C6-475B-B3EF-5993C099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7691A-DCB5-4C18-8F35-9CCBBB2D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03BDB-A529-4976-B9FF-B95CA483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DEDFD-C33B-4BEF-B4CF-D3047069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8B69-DB02-41B9-A668-7E66036C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990D5-C7AC-4759-B177-93FD4B6F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1EDED-BC6F-45B2-AB2C-E068A2CC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228BB-F601-4446-BC10-973D83F9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3D9CB-13CD-43FE-A658-DE0E087E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F99F9-5BC7-43D4-983C-60F65F49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68167-0F3D-4754-B1FD-BC807699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ADA52-A7C1-4DFF-A628-17955B48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310CB-FF25-4606-94A8-8549D8B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86D52-D2AF-43A8-8572-FFD45DE2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E9424-0688-4E1A-A305-96648C96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3A66-DEDA-4C70-9487-9F16C7E2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10977-4BFF-4286-90F3-16A1A004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2CA2A-BC4E-409C-90CE-A68EB66F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EE459-B628-412D-A591-AD7D62F0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CF84A-AD09-439E-A23D-6C42C0B8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41E53-DCC4-4AF2-BC2F-D689F4DC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10A6B-9127-4337-89F0-0264FAB7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29147-C7AC-4F09-BDCB-81ECB0B0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C3E8F-1368-43FB-BB33-6A10284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0AA78-DD23-43D2-A404-3D063018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A8B44-72FC-4DB4-90F5-CCC3996F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093A-29CE-41A3-8FC4-BD1A748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4EED7-3C5E-45D6-BEDC-13BB7BD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67D84-6511-49EC-8296-7AAE7390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82E9B-6602-4D79-A413-1CCFC2E4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7F054-EC7F-4ABD-BD92-743DCE74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7FE70-8A9B-41E2-BF2C-FA6F4EFC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91A76-5B00-4FB0-A699-70EB2F11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1D0D7-A804-42D1-AEAD-C3869920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59D36-0450-433B-B761-BAA3E939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90635-6F20-41EC-A1DE-35D13B6A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8A8EF-2AB9-4022-A626-C567A65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8B2E-C7E3-4D15-8947-CBE27FE9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E9022-2935-44C2-A502-B5797F1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7D830-4285-4CB9-A3B8-781040C3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12D02-B308-4426-8EE0-CA373CC5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5596C-6E9D-4924-A2FC-B8709F06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460CC-EB8C-4182-8B43-16DF1C56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13A5E-7B62-4215-AB6E-6FD50BD2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42D2C9-9E69-4FED-9428-BB6345B1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156C9-CAA0-48D5-817F-C171A45C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C9861-4657-4147-BCE2-B4898068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12466-0F9B-49CA-9F89-BCA26C5E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18989-7AE3-43BD-A2F2-8F072896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952200" y="0"/>
            <a:ext cx="7334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8F4A4-5238-4DE0-A9D4-D38717B2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B415E-0C65-45BA-9A6E-5BE8D22F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F814F-7DD3-4E20-9A2F-FB0E886A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75AE5-DF37-4026-963F-60CA2AC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360" y="3754800"/>
            <a:ext cx="121921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4E7A4-FF01-47A5-AE89-E5DB7280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47080" y="69516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-36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47080" y="3754800"/>
            <a:ext cx="594972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8EF3B-E154-4C53-AC24-B2CE70FB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12164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44000" y="69516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-36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12164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8244000" y="3754800"/>
            <a:ext cx="3925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7A870-9743-4C1C-BC96-DF443445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B59E92-3717-43F1-916A-11690DB9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F48413-B5D3-4AEC-AAA7-E78E388B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435AB-96FF-4611-B464-65F317E1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3B0C-342F-489C-B9C9-B4097F3BF3B2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ADE8-846B-4A9A-BC9D-F7270A8800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6356-5AEF-443E-B62B-FCA9671D4E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86F7-395F-4C84-84D8-695E710397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1512-57C3-4145-AFAD-4800B700C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F431-9443-4FDB-B0B4-A0410A14D8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0"/>
          </p:nvPr>
        </p:nvSpPr>
        <p:spPr>
          <a:xfrm>
            <a:off x="609120" y="6251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sldNum" idx="31"/>
          </p:nvPr>
        </p:nvSpPr>
        <p:spPr>
          <a:xfrm>
            <a:off x="8737560" y="624816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4EA2-2199-4D98-BB1E-546336E6D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ftr" idx="32"/>
          </p:nvPr>
        </p:nvSpPr>
        <p:spPr>
          <a:xfrm>
            <a:off x="4165200" y="624816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3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A53A-D61C-4091-8021-E56E26F7EA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4"/>
          </p:nvPr>
        </p:nvSpPr>
        <p:spPr>
          <a:xfrm>
            <a:off x="477468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5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A963-BA58-4975-B997-AFD3B1AFB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6"/>
          </p:nvPr>
        </p:nvSpPr>
        <p:spPr>
          <a:xfrm>
            <a:off x="1549080" y="62434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7"/>
          </p:nvPr>
        </p:nvSpPr>
        <p:spPr>
          <a:xfrm>
            <a:off x="4876920" y="6243480"/>
            <a:ext cx="386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8"/>
          </p:nvPr>
        </p:nvSpPr>
        <p:spPr>
          <a:xfrm>
            <a:off x="9389880" y="624348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E3AC-E7B5-4B45-85A6-AB119D97A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9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0"/>
          </p:nvPr>
        </p:nvSpPr>
        <p:spPr>
          <a:xfrm>
            <a:off x="477468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1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E80F-056E-490D-A5CC-F4486C4A6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直接连接符 6"/>
          <p:cNvSpPr/>
          <p:nvPr/>
        </p:nvSpPr>
        <p:spPr>
          <a:xfrm>
            <a:off x="476280" y="998640"/>
            <a:ext cx="11430000" cy="1440"/>
          </a:xfrm>
          <a:prstGeom prst="line">
            <a:avLst/>
          </a:prstGeom>
          <a:ln w="4428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2AA4-DCAF-4C1E-A9E5-66642A830A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C335-EB6F-4DE4-A5CA-99364E64C9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2"/>
          <p:cNvSpPr/>
          <p:nvPr/>
        </p:nvSpPr>
        <p:spPr>
          <a:xfrm flipV="1">
            <a:off x="127080" y="6721920"/>
            <a:ext cx="11969640" cy="5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F41-8E9F-4EC5-A03C-DCB172696C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5329-DE43-4511-860B-55FAF5AC09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5E7B-8F0A-45AA-815C-163CD21A36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1A84-C678-4A5B-B608-837572BBA7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2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6D01-2001-4BEA-B309-5CB8656938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4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9A45-C572-4B13-94E9-70C0452B04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6052-A42A-4087-A13A-BF4A7A0A20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975C-B0DF-4728-9F4A-3FA235A1D1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C500-10AB-4871-9A86-72A39E7F09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9D0F-5C9A-453F-A492-34638C638F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7334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-360" y="695160"/>
            <a:ext cx="121921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10253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10253f"/>
              </a:solidFill>
              <a:latin typeface="黑体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1"/>
          </p:nvPr>
        </p:nvSpPr>
        <p:spPr>
          <a:xfrm>
            <a:off x="0" y="6643440"/>
            <a:ext cx="9144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E6BE-7AB1-447A-8764-019F90E47E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3"/>
          </p:nvPr>
        </p:nvSpPr>
        <p:spPr>
          <a:xfrm>
            <a:off x="11143800" y="6643440"/>
            <a:ext cx="10479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31B-3C67-45D9-8808-30E75212C1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日期占位符 1"/>
          <p:cNvSpPr/>
          <p:nvPr/>
        </p:nvSpPr>
        <p:spPr>
          <a:xfrm>
            <a:off x="0" y="6643800"/>
            <a:ext cx="914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3DB-F596-4A20-AC51-5697E816B1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灯片编号占位符 2"/>
          <p:cNvSpPr/>
          <p:nvPr/>
        </p:nvSpPr>
        <p:spPr>
          <a:xfrm>
            <a:off x="11144160" y="6643800"/>
            <a:ext cx="104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C88A-BF06-45DD-8298-B2C211C5B47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2495520" y="1268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 告 题 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6600960" y="3068640"/>
            <a:ext cx="324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导老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8" descr=""/>
          <p:cNvPicPr/>
          <p:nvPr/>
        </p:nvPicPr>
        <p:blipFill>
          <a:blip r:embed="rId1"/>
          <a:stretch/>
        </p:blipFill>
        <p:spPr>
          <a:xfrm>
            <a:off x="7842240" y="6035760"/>
            <a:ext cx="4349880" cy="755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pic>
        <p:nvPicPr>
          <p:cNvPr id="701" name="图片 1" descr=""/>
          <p:cNvPicPr/>
          <p:nvPr/>
        </p:nvPicPr>
        <p:blipFill>
          <a:blip r:embed="rId2"/>
          <a:stretch/>
        </p:blipFill>
        <p:spPr>
          <a:xfrm>
            <a:off x="11160" y="6013440"/>
            <a:ext cx="3645000" cy="800280"/>
          </a:xfrm>
          <a:prstGeom prst="rect">
            <a:avLst/>
          </a:prstGeom>
          <a:ln w="0">
            <a:noFill/>
          </a:ln>
        </p:spPr>
      </p:pic>
      <p:sp>
        <p:nvSpPr>
          <p:cNvPr id="702" name="文本框 7"/>
          <p:cNvSpPr/>
          <p:nvPr/>
        </p:nvSpPr>
        <p:spPr>
          <a:xfrm>
            <a:off x="1271520" y="438948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S:ppt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模板大家自选，国科大和光电所的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logo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须在封面体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66"/>
          <p:cNvSpPr/>
          <p:nvPr/>
        </p:nvSpPr>
        <p:spPr>
          <a:xfrm>
            <a:off x="407880" y="141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04a7b"/>
                </a:solidFill>
                <a:latin typeface="Arial"/>
                <a:ea typeface="宋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18"/>
          <p:cNvSpPr/>
          <p:nvPr/>
        </p:nvSpPr>
        <p:spPr>
          <a:xfrm>
            <a:off x="119160" y="763560"/>
            <a:ext cx="12072960" cy="0"/>
          </a:xfrm>
          <a:prstGeom prst="line">
            <a:avLst/>
          </a:prstGeom>
          <a:ln w="572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"/>
          <p:cNvSpPr/>
          <p:nvPr/>
        </p:nvSpPr>
        <p:spPr>
          <a:xfrm>
            <a:off x="479520" y="1125360"/>
            <a:ext cx="108727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一、研究背景及意义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简要介绍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涉及他人成果的须给出参考文献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二、学位论文进展情况，存在的问题，已取得阶段性成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重点介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三、下一步工作计划和内容，预计答辩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四、已取得科研成果列表（已发表、待发表学术论文、专利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博士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15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，提问：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，建议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时间安排：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0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硕士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，提问：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，建议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时间安排：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6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r>
              <a:rPr b="1" lang="en-US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+1</a:t>
            </a:r>
            <a:r>
              <a:rPr b="1" lang="zh-CN" sz="2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8:02:38Z</dcterms:created>
  <dc:creator>Zhangli</dc:creator>
  <dc:description/>
  <dc:language>en-US</dc:language>
  <cp:lastModifiedBy>unknown</cp:lastModifiedBy>
  <cp:lastPrinted>2015-12-11T02:41:49Z</cp:lastPrinted>
  <dcterms:modified xsi:type="dcterms:W3CDTF">2021-09-23T02:37:10Z</dcterms:modified>
  <cp:revision>2719</cp:revision>
  <dc:subject/>
  <dc:title>幻灯片 1</dc:title>
</cp:coreProperties>
</file>