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</p:sldIdLst>
  <p:sldSz cx="12193588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dt" idx="4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sldImg"/>
          </p:nvPr>
        </p:nvSpPr>
        <p:spPr>
          <a:xfrm>
            <a:off x="107640" y="739800"/>
            <a:ext cx="658188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ftr" idx="43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 type="sldNum" idx="44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7AB3-359D-428A-81FA-D1F1A8CC331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08000" y="739800"/>
            <a:ext cx="6581880" cy="370368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2A86-029C-4BF0-894C-8CB26ECC87C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15CF3-1147-4FCF-AC7F-C19B44B065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C15A4-F4DF-4B90-B019-F6C71039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EFFAAB-B43B-4F05-9D39-C3368E0A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2D0468-555B-41EA-A650-7750A363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91FE22-5B8A-4486-8354-4E3EB6E8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A99D4D-BE3B-4996-9E29-3C50182A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27749A-D26E-4A37-82CD-C0424C50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CB521D-CDD3-4FCC-BA4C-62D2D1C0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B13070-94DC-4EA5-BC21-F229016C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AE39D2-7D9E-4ED9-BF86-AD1EF9C2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85E729-39F4-4666-A234-45CBEA31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7899C2-6B33-4D9A-BA5A-92A4ECD7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BCBEA-F4FD-4660-BAD2-54DD418F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A98D8C-32EA-49CD-B060-59742DCE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40078C-23AD-4E1B-B9A7-8C07CB5A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370465-8111-4666-83C3-A9BE2C6A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1BD859-1C6D-42F4-9153-EC0B72FB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D4A85D-FD08-4B0E-9294-5A015FB5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751A1D-9577-45DB-841B-D668F7D5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6F4197-2C6E-4CCC-9224-1706C561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D13883-7245-4D46-ADEA-86EB3174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BBB394-4042-4B99-88C4-BAFD9249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0105AC-200A-4799-8CFB-9CD2F029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8657C-144A-4194-9017-5A9E981859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5A27FB-AA21-4753-81D9-C1507AD3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D22BDA-0AFC-4EE9-839F-15AFDEE1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D90657-7770-4AA4-BABE-FAD9746F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4AB624-2DEB-4F39-B8B6-0DCAA116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4219F7-E860-44A7-9318-820CDF77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B168CE-FD8F-468E-B78B-9602636D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94F8DD-527A-44C8-9D81-C3C4241F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18BC29-96D9-43CE-877D-00EE8970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C81203-E25F-4D75-897F-5BE9D692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465A3C-D6A0-4461-85EA-543D2A50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A8DE0-E0AA-4B06-BBB2-D45FE677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B47805-B56F-46E2-AFB6-E54B5011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8A38DA-F60F-4473-9E3A-3B73F8B9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60D096-89B7-419A-B914-7B6F1487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32FE50-4EDE-4D8F-957D-F819A292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B6DBEF-2368-497D-9F4B-DF79E21B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1CDD50-35EC-45EB-9060-DE3AC451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B0A1B7-9EEB-46A4-88F5-3410E41A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533DD2-7A27-4EEA-944E-5E4F23D3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2023DF-9506-431A-8296-7E723F45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94FC5A-AA1F-41D2-AE45-428C526F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27505-9521-447E-BE87-D2C5DE99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A91B98-76B9-41D9-8D6F-16240FDA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C86A0B-D483-4BC7-A692-24A6AB8E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D3DD46-C25D-4DC1-BA7B-85E5BB0A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F59831-C3F7-48A1-B902-3F74C5FF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E78A79-DA2B-40B0-94D5-09DBF0A8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EFBE1-7E55-4133-AD41-B2C883E6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18989C-8B8A-4312-ADE6-2F0E6DA9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A58A9F-2BEF-4846-9CF2-6AE51455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6A8B49-D31E-4E71-AC8C-1A8F097E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C8BEB-F493-4FEC-ADCA-410FA1D6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2F2935-5696-4177-B51B-22A97D98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3E4864-EBB7-41DB-98A4-218C5E57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0FF87A-A120-4D7D-B2DD-782A034E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AEC086-8FE8-400F-B885-A5D15685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3AE00C-1234-4775-992B-FD42EB88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A1DC1D-6B47-4B61-AEBC-4CC6FF7F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61823F-CDF1-4D31-9031-B598633B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31041F-ACAD-43CA-A0F1-76485C59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3A38D3-124D-46E0-B5E5-5494E20D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F7A818-E6E6-4C63-B960-51FF09DB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456DF-0049-4E87-B8A1-A3CBEEDE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C035C9-8355-4D75-B307-62878AF7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D4C453-4E29-4D50-B6DE-656FB729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9CA320-B594-415C-B531-1852F60C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3028FF-6422-4219-815B-F6D2A24D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7AD902-98DB-4AC9-B7FC-AA9D9E8F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AD02DA-23D3-4E17-B242-15BDF05A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E3806F-5EDB-4F5B-889D-DC50B0DE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6FF2DA-1D88-4951-8E03-B71ECFDD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3A94BA-CE40-4B9F-AB6D-C06A280B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9B87D5-1198-4B34-AF2B-D39BDD25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07CB5-A21A-4646-B3BD-4BC94E45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705D6C-997C-4410-9995-80D1BE6B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6DE356-C895-47DD-8966-8E7EF43F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6E9439D-EC7B-4351-A57A-8B9B4CC6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DD7531-66B8-4E0E-BE7A-CA4734CD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C0BBE41-D112-4AD2-8F2A-60876C7B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1E0E0D9-2A98-4200-B563-64F89ED3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AD3B5C-E604-4ADA-904F-381B9180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638BC0-70F3-4F62-B1A1-D84A028E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B24CA7-26AE-41C9-BCE7-AA2FC353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492D45-836E-413F-B181-FCB8E461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9522F-BA8F-4061-ADF2-9B78BA42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07FC4E3-A55C-463C-A562-E3DBB9A2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7B9007-F176-4A8D-8B28-C0CB0512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DC2043-8062-40C6-9951-0E98DCAD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CAA89-3271-41E8-9901-C405FEF8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C1A58-D4AE-49E9-8F11-F16685E6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90432-9A07-4648-81C7-57E86B25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7704A-423A-4034-8136-B5839E40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F7521-9894-41C7-A4F1-73F55B67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73D96-8852-4A32-AAC3-05A2F996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0E4F8-B46E-4195-A2A0-ADD074D4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17CED-A90F-4434-A642-4C0C678A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56710-A86A-495F-85D5-EE7ED899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BF353-13CA-478D-9657-CDAE3837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927EC-4ABC-494D-8EB6-0E416C14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5B9FA-1903-4C25-BC23-51E47402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516940-18AC-42C2-B3A1-00F65D59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878E1-055F-44BA-AFAE-34B677A0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F8ACEF-443B-4907-865F-ECE38BC7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10A93-E76D-4904-8505-CD80D8A7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E44CB-6B9F-4AC1-86C1-4E13D3DA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E21A4-A935-4257-BA28-8CB6755E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7F2EE-68FC-49E0-819D-2D0DE999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84DDB-F011-426D-91A2-43E44A2C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8218E0-22BC-4FF8-975D-D22D0913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5F6BD-2265-43FC-9C66-C9F41F35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831BA1-AA7A-4B36-AC44-D24AEB25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167491-1C9F-4267-B8C7-28FB88B5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23A88C-D893-4945-AA50-5FD8CEAA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DB782B-4A35-4B4E-BF91-460C4CEC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069F4E-A3F0-4030-8E39-C7459510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B49EEA-398F-48EC-AFBB-91E24D8D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16ECD4-B004-4A5F-89FF-7BBC39C9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8D567D-C1EC-4B8E-8524-AE7A1891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9C1E91-0583-4522-ABE9-A716A6D6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39E874-5122-40D4-9E50-D44146FA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FE1F5-B4E9-45AD-85E3-95129AA3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B57668-FA64-4B7B-8C3A-94EB4F04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2B9FA4-D411-4A0E-8054-0533E3E8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65D255-F182-4661-8864-6B261669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1BA6C8-8DFE-4603-AAF5-E9C1703B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79ED07-88BB-4D48-BF02-93D6FF59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EACF12-E354-4E9F-B0CF-8814FF0F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77E7D6-E550-4130-A8A4-5C9825F1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D57E2B-1D2E-4289-AEDA-AB2FCF03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7A0ADB-93F2-463D-BB69-7B1DDAD3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7069C5-551E-4A46-AF36-0C6FF5B7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12130-637C-4FFE-A198-ABB37BCB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9C016-0BA0-47BC-817E-9125A8FB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3B9298-8C08-42C6-9A18-A95B404D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5FA534-C27E-4EA7-BDBC-AA8D739F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90A602-9ADD-4E34-AFF1-CFF0DAFF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B66E63-3632-49F5-A9F7-BA037511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267A89-9C56-44F2-AD8A-4DF021F1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011BC8-6B7F-457A-8AA8-339743B5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36F374-2201-4010-ADF2-9AC70C26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169421-9565-4A61-9EA2-570ABF4B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921801-E268-4669-91C4-3F4EC278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D2178-4D18-4815-BE7E-807A03A2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59F9FC-6881-4CA6-90B6-7107ACAF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9A627B-4E92-42E1-BC0B-C991D3EA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E90C3E-A6A9-43F7-A025-6AA1C9F9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585B11-F974-4E15-9BDF-F600F397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7B804C-41EE-454E-8EB8-CCEECD41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C2E0B4-627C-437E-9654-65D2075C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300D48-9A6F-4CBB-A248-33CE4BAB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FC137F-780C-422B-B570-52573CCE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269C1C-ECBD-40D5-8664-45047562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334CA2-944E-41CA-8FF5-74EC785F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B3B17-B0FC-4908-B9D0-A5FB7700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3ED34E-C066-4CC0-85EA-6BEB9D9C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2101FD-70F2-42B6-8168-2B527C95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288BB6-7EF0-4BC1-8187-28288965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3F1D48-C741-405C-96D5-EB927947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B68717-54D4-461B-A81E-2125E220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0E2CF4-5F1C-44A2-A888-BF00C8E9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729C95-2673-4115-989D-8358412A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BD284D-B5F4-4F92-B843-BE072584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17283C-1759-4FE5-8112-0CD29FBC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885451-0900-48A7-AC40-31D97791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43440"/>
            <a:ext cx="9144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3ED6-CB0B-47D6-ACA0-65FAB8FAF75E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1143800" y="6643440"/>
            <a:ext cx="10479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17AF-F724-4B52-9553-A457611C78C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4"/>
          </p:nvPr>
        </p:nvSpPr>
        <p:spPr>
          <a:xfrm>
            <a:off x="0" y="6643440"/>
            <a:ext cx="9144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928F-3AB9-44DF-A2EB-B628ECF7BA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6"/>
          </p:nvPr>
        </p:nvSpPr>
        <p:spPr>
          <a:xfrm>
            <a:off x="11143800" y="6643440"/>
            <a:ext cx="10479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C413-4856-48C1-BCFA-D1F3E89E23B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0" y="6643440"/>
            <a:ext cx="9144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AC30-57E7-45A3-835A-2FC0523247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9"/>
          </p:nvPr>
        </p:nvSpPr>
        <p:spPr>
          <a:xfrm>
            <a:off x="11143800" y="6643440"/>
            <a:ext cx="10479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FBDD-CFBB-488B-BFC4-B12B3D1E8A9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0"/>
          </p:nvPr>
        </p:nvSpPr>
        <p:spPr>
          <a:xfrm>
            <a:off x="609120" y="6251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sldNum" idx="31"/>
          </p:nvPr>
        </p:nvSpPr>
        <p:spPr>
          <a:xfrm>
            <a:off x="8737560" y="624816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BD5E-6ACC-4769-B186-66D886EE9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ftr" idx="32"/>
          </p:nvPr>
        </p:nvSpPr>
        <p:spPr>
          <a:xfrm>
            <a:off x="4165200" y="624816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3"/>
          </p:nvPr>
        </p:nvSpPr>
        <p:spPr>
          <a:xfrm>
            <a:off x="0" y="6643440"/>
            <a:ext cx="9144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DCAA-0FA0-49D7-B0F5-1E3588C1F4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4"/>
          </p:nvPr>
        </p:nvSpPr>
        <p:spPr>
          <a:xfrm>
            <a:off x="477468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5"/>
          </p:nvPr>
        </p:nvSpPr>
        <p:spPr>
          <a:xfrm>
            <a:off x="11143800" y="6643440"/>
            <a:ext cx="10479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8B7E-A037-404A-A090-5D31351FB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6"/>
          </p:nvPr>
        </p:nvSpPr>
        <p:spPr>
          <a:xfrm>
            <a:off x="1549080" y="624348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7"/>
          </p:nvPr>
        </p:nvSpPr>
        <p:spPr>
          <a:xfrm>
            <a:off x="4876920" y="6243480"/>
            <a:ext cx="386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8"/>
          </p:nvPr>
        </p:nvSpPr>
        <p:spPr>
          <a:xfrm>
            <a:off x="9389880" y="624348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EE51-8CF3-4443-9E33-CD7E9940C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39"/>
          </p:nvPr>
        </p:nvSpPr>
        <p:spPr>
          <a:xfrm>
            <a:off x="0" y="6643440"/>
            <a:ext cx="9144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0"/>
          </p:nvPr>
        </p:nvSpPr>
        <p:spPr>
          <a:xfrm>
            <a:off x="477468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1"/>
          </p:nvPr>
        </p:nvSpPr>
        <p:spPr>
          <a:xfrm>
            <a:off x="11143800" y="6643440"/>
            <a:ext cx="10479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B628-C1A5-418E-BC8B-AA8547623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直接连接符 6"/>
          <p:cNvSpPr/>
          <p:nvPr/>
        </p:nvSpPr>
        <p:spPr>
          <a:xfrm>
            <a:off x="476280" y="998640"/>
            <a:ext cx="11430000" cy="1440"/>
          </a:xfrm>
          <a:prstGeom prst="line">
            <a:avLst/>
          </a:prstGeom>
          <a:ln w="4428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0" y="6643440"/>
            <a:ext cx="9144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6331-FD07-438C-8271-13F00861FA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11143800" y="6643440"/>
            <a:ext cx="10479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4F86-A01C-4433-A151-72EF17E42D4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2"/>
          <p:cNvSpPr/>
          <p:nvPr/>
        </p:nvSpPr>
        <p:spPr>
          <a:xfrm flipV="1">
            <a:off x="127080" y="6721920"/>
            <a:ext cx="11969640" cy="5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6"/>
          </p:nvPr>
        </p:nvSpPr>
        <p:spPr>
          <a:xfrm>
            <a:off x="0" y="6643440"/>
            <a:ext cx="9144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0A55-D721-452F-8C5C-41D5BF1BFE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8"/>
          </p:nvPr>
        </p:nvSpPr>
        <p:spPr>
          <a:xfrm>
            <a:off x="11143800" y="6643440"/>
            <a:ext cx="10479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8E9A-09FC-4677-96C3-950F9F0820E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9"/>
          </p:nvPr>
        </p:nvSpPr>
        <p:spPr>
          <a:xfrm>
            <a:off x="0" y="6643440"/>
            <a:ext cx="9144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E321-67B9-4612-9EE7-61C406C269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1"/>
          </p:nvPr>
        </p:nvSpPr>
        <p:spPr>
          <a:xfrm>
            <a:off x="11143800" y="6643440"/>
            <a:ext cx="10479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C37A-FEB3-467A-98D1-467FC0D2962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2"/>
          </p:nvPr>
        </p:nvSpPr>
        <p:spPr>
          <a:xfrm>
            <a:off x="0" y="6643440"/>
            <a:ext cx="9144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9661-45DB-430D-A865-B0665584EE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4"/>
          </p:nvPr>
        </p:nvSpPr>
        <p:spPr>
          <a:xfrm>
            <a:off x="11143800" y="6643440"/>
            <a:ext cx="10479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257E-341C-4D81-A10B-E410A5680DD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0" y="6643440"/>
            <a:ext cx="9144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77C6-9D2C-4E54-8025-10FBB7D0A9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11143800" y="6643440"/>
            <a:ext cx="10479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EE69-793E-4392-B99F-4CFE725137A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8"/>
          </p:nvPr>
        </p:nvSpPr>
        <p:spPr>
          <a:xfrm>
            <a:off x="0" y="6643440"/>
            <a:ext cx="9144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75B5-68BC-4D8C-88DF-79EB5AA08E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0"/>
          </p:nvPr>
        </p:nvSpPr>
        <p:spPr>
          <a:xfrm>
            <a:off x="11143800" y="6643440"/>
            <a:ext cx="10479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74DA-9AEC-4EC5-A9FC-6EEEA8009B8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1"/>
          </p:nvPr>
        </p:nvSpPr>
        <p:spPr>
          <a:xfrm>
            <a:off x="0" y="6643440"/>
            <a:ext cx="9144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D8A3-228E-48A5-8133-7523ED264E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3"/>
          </p:nvPr>
        </p:nvSpPr>
        <p:spPr>
          <a:xfrm>
            <a:off x="11143800" y="6643440"/>
            <a:ext cx="10479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454C-BAE2-4C3F-AEA1-42C1FE4BD1C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日期占位符 1"/>
          <p:cNvSpPr/>
          <p:nvPr/>
        </p:nvSpPr>
        <p:spPr>
          <a:xfrm>
            <a:off x="0" y="6643800"/>
            <a:ext cx="914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2EE3-EFB2-4BC1-B260-386C98A026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灯片编号占位符 2"/>
          <p:cNvSpPr/>
          <p:nvPr/>
        </p:nvSpPr>
        <p:spPr>
          <a:xfrm>
            <a:off x="11144160" y="6643800"/>
            <a:ext cx="104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60AC-4F7E-4BDF-8A95-199285F61AE1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2"/>
          <p:cNvSpPr/>
          <p:nvPr/>
        </p:nvSpPr>
        <p:spPr>
          <a:xfrm>
            <a:off x="2495520" y="12682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 告 题 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3"/>
          <p:cNvSpPr/>
          <p:nvPr/>
        </p:nvSpPr>
        <p:spPr>
          <a:xfrm>
            <a:off x="6600960" y="3068640"/>
            <a:ext cx="324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讲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导老师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8" descr=""/>
          <p:cNvPicPr/>
          <p:nvPr/>
        </p:nvPicPr>
        <p:blipFill>
          <a:blip r:embed="rId1"/>
          <a:stretch/>
        </p:blipFill>
        <p:spPr>
          <a:xfrm>
            <a:off x="7842240" y="6035760"/>
            <a:ext cx="4349880" cy="755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pic>
        <p:nvPicPr>
          <p:cNvPr id="701" name="图片 1" descr=""/>
          <p:cNvPicPr/>
          <p:nvPr/>
        </p:nvPicPr>
        <p:blipFill>
          <a:blip r:embed="rId2"/>
          <a:stretch/>
        </p:blipFill>
        <p:spPr>
          <a:xfrm>
            <a:off x="11160" y="6013440"/>
            <a:ext cx="3645000" cy="800280"/>
          </a:xfrm>
          <a:prstGeom prst="rect">
            <a:avLst/>
          </a:prstGeom>
          <a:ln w="0">
            <a:noFill/>
          </a:ln>
        </p:spPr>
      </p:pic>
      <p:sp>
        <p:nvSpPr>
          <p:cNvPr id="702" name="文本框 7"/>
          <p:cNvSpPr/>
          <p:nvPr/>
        </p:nvSpPr>
        <p:spPr>
          <a:xfrm>
            <a:off x="1271520" y="438948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PS:ppt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模板大家自选，国科大和光电所的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logo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须在封面体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66"/>
          <p:cNvSpPr/>
          <p:nvPr/>
        </p:nvSpPr>
        <p:spPr>
          <a:xfrm>
            <a:off x="407880" y="141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04a7b"/>
                </a:solidFill>
                <a:latin typeface="Arial"/>
                <a:ea typeface="宋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直接连接符 18"/>
          <p:cNvSpPr/>
          <p:nvPr/>
        </p:nvSpPr>
        <p:spPr>
          <a:xfrm>
            <a:off x="119160" y="763560"/>
            <a:ext cx="12072960" cy="0"/>
          </a:xfrm>
          <a:prstGeom prst="line">
            <a:avLst/>
          </a:prstGeom>
          <a:ln w="5724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1"/>
          <p:cNvSpPr/>
          <p:nvPr/>
        </p:nvSpPr>
        <p:spPr>
          <a:xfrm>
            <a:off x="479520" y="1125360"/>
            <a:ext cx="1087272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一、研究背景及意义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简要介绍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涉及方法的须给出参考文献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二、学位论文进展情况，存在的问题，已取得阶段性成果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重点介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三、下一步工作计划和内容，预计答辩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四、已取得科研成果列表（已发表、待发表学术论文、专利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博士</a:t>
            </a:r>
            <a:r>
              <a:rPr b="1" lang="en-US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15</a:t>
            </a: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分钟，建议时间安排：</a:t>
            </a:r>
            <a:r>
              <a:rPr b="1" lang="en-US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分钟</a:t>
            </a:r>
            <a:r>
              <a:rPr b="1" lang="en-US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+10</a:t>
            </a: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分钟</a:t>
            </a:r>
            <a:r>
              <a:rPr b="1" lang="en-US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+1</a:t>
            </a: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分钟</a:t>
            </a:r>
            <a:r>
              <a:rPr b="1" lang="en-US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+1</a:t>
            </a: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分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硕士</a:t>
            </a:r>
            <a:r>
              <a:rPr b="1" lang="en-US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10</a:t>
            </a: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分钟，建议时间安排：</a:t>
            </a:r>
            <a:r>
              <a:rPr b="1" lang="en-US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分钟</a:t>
            </a:r>
            <a:r>
              <a:rPr b="1" lang="en-US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+6</a:t>
            </a: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分钟</a:t>
            </a:r>
            <a:r>
              <a:rPr b="1" lang="en-US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+1</a:t>
            </a: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分钟</a:t>
            </a:r>
            <a:r>
              <a:rPr b="1" lang="en-US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+1</a:t>
            </a: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分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8:02:38Z</dcterms:created>
  <dc:creator>Zhangli</dc:creator>
  <dc:description/>
  <dc:language>en-US</dc:language>
  <cp:lastModifiedBy>unknown</cp:lastModifiedBy>
  <cp:lastPrinted>2015-12-11T02:41:49Z</cp:lastPrinted>
  <dcterms:modified xsi:type="dcterms:W3CDTF">2020-09-23T08:55:39Z</dcterms:modified>
  <cp:revision>2717</cp:revision>
  <dc:subject/>
  <dc:title>幻灯片 1</dc:title>
</cp:coreProperties>
</file>